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679-75C0-4CF9-AC89-E8167E7D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F2C-7FB7-4C98-97C0-96083F8E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944-BE1C-48EC-B454-880E1B9C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19E-B137-44BA-92FD-FA191D70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0D9-070A-4E21-89A0-D044E308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6C8-1D66-4213-BC66-0B996478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141-B1D8-4BFC-AE8A-54E46AFD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B35-E7AA-416D-9E46-7EDE9226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591-031A-44F5-B41E-95609EBE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674-BB52-472C-BB47-8F8A5ABE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52D-FAB8-4AF0-B399-F2351ACB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9E2-AAA3-405C-9700-982455AF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4077-2C0F-4D33-A772-B27B42645D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-214200" y="-1523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 ноября 2020 года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ь памяти жертв ДТ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фото для дня памяти жертв\16_jpg_840x840_q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Голназ-Ленар\Desktop\big1056531110.jpg"/>
          <p:cNvPicPr/>
          <p:nvPr/>
        </p:nvPicPr>
        <p:blipFill>
          <a:blip r:embed="rId1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Голназ-Ленар\Desktop\мальч-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357720" cy="223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357280" y="2286000"/>
            <a:ext cx="3286440" cy="229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3357720" y="0"/>
            <a:ext cx="2428560" cy="225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4"/>
          <a:stretch/>
        </p:blipFill>
        <p:spPr>
          <a:xfrm>
            <a:off x="0" y="2214720"/>
            <a:ext cx="24289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E:\фоны от директора\1274.jpg"/>
          <p:cNvPicPr/>
          <p:nvPr/>
        </p:nvPicPr>
        <p:blipFill>
          <a:blip r:embed="rId5"/>
          <a:stretch/>
        </p:blipFill>
        <p:spPr>
          <a:xfrm>
            <a:off x="5775480" y="0"/>
            <a:ext cx="336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6"/>
          <a:stretch/>
        </p:blipFill>
        <p:spPr>
          <a:xfrm>
            <a:off x="0" y="4500720"/>
            <a:ext cx="2428920" cy="235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7"/>
          <a:stretch/>
        </p:blipFill>
        <p:spPr>
          <a:xfrm>
            <a:off x="2428920" y="464328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E:\фоны от директора\26722.jpg"/>
          <p:cNvPicPr/>
          <p:nvPr/>
        </p:nvPicPr>
        <p:blipFill>
          <a:blip r:embed="rId8"/>
          <a:stretch/>
        </p:blipFill>
        <p:spPr>
          <a:xfrm>
            <a:off x="5786280" y="2286000"/>
            <a:ext cx="3357720" cy="227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9"/>
          <a:stretch/>
        </p:blipFill>
        <p:spPr>
          <a:xfrm>
            <a:off x="5072040" y="4572000"/>
            <a:ext cx="20718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10"/>
          <a:stretch/>
        </p:blipFill>
        <p:spPr>
          <a:xfrm>
            <a:off x="6929280" y="4572000"/>
            <a:ext cx="2214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357120" y="1000080"/>
            <a:ext cx="835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усть будут улыбки на лицах детей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92040" y="549360"/>
            <a:ext cx="8358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 Нижнекамском муниципальном район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а 10 месяцев 2020 года произошло 36 ДТП с участием детей,  пострадали 37 несовершеннолетни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и 1 ребенок поги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фото для дня памяти жертв\2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Голназ-Ленар\Desktop\1353328014_6dd5136181d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фото для дня памяти жертв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42960" y="500040"/>
            <a:ext cx="7929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гнозам Всемирной организации здравоохранен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2025 год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атизм в результате дорожных аварий может стать третьей основной причиной смертности после сердечно-сосудистых и раковых заболева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500040" y="142920"/>
            <a:ext cx="8143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од дорожно-транспортные происшествия  во всем мире уносят жизни 1 млн. 200 тыс.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жедневно на дорогах России гибнут до 10 детей и около сотни несовершеннолетних получают трав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ин год в ДТП погибает количество детей примерно равное од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E:\фото для дня памяти жертв\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6:35:41Z</dcterms:created>
  <dc:creator>Голназ-Ленар</dc:creator>
  <dc:description/>
  <dc:language>en-US</dc:language>
  <cp:lastModifiedBy>user</cp:lastModifiedBy>
  <dcterms:modified xsi:type="dcterms:W3CDTF">2020-11-02T08:42:49Z</dcterms:modified>
  <cp:revision>20</cp:revision>
  <dc:subject/>
  <dc:title>Слайд 1</dc:title>
</cp:coreProperties>
</file>